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C819-1BE1-4894-94AE-AC1D8D0A1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an agent is too “fat” to migrate onto a particular no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co-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scenario: coordinating things all over the country or world.  Involves many different organ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nature of service-oriented paradigm is important: Scripts just declare what they want, and the system finds the services that fulfill these n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 Rock does not support dynamic application deploym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Web and IrisNet do not focus on computing within SensorNets or application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et does not have service provisioning for dynamic service binding. Tenet scripts assume that the instructions they execute exist.  The current implementation of Tenet assumes a homogeneous platform -- all instructions provided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te version of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4A6-F72A-42B8-A5B9-6F5551D9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280-E051-46BF-81E6-4543141A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24C-C683-416B-BBC6-4F1672A3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72C-3C55-4B87-AF80-344A3237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FBC-5C0B-4A16-A752-48C495AE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FE1-B665-4A0A-B15D-98140F4F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D30-6433-49D6-B501-4C787761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BB8-7200-4D51-B19B-C701586A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50E-9F20-494B-90AD-C44B64D8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E74-25CD-4A65-A30B-813C57A7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73C-5A50-4B95-9350-4D6A1531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6E8-415B-48A3-99CB-99E6B292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BB84-0294-4AF9-81CF-3638C567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a Flexible 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n-Liang Fok, Gruia-Catalin Roman, and Chenyang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5638680"/>
            <a:ext cx="551196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9B7-ED89-4DC9-88C2-264CA3977D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e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 for concurr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EFA-A2CD-44E0-829A-6E4FF69EF8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un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&amp; intra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ust react to changes in thei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event types, sources, priorities, and usag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sources prevent hosting every servic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ervic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/local persistent/transient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D88-81BF-47AC-BF15-598FBE5F1D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23760" y="4038480"/>
            <a:ext cx="7748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requ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reDete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rv; // a handle to the 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void main(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bind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GER | PERSISTENT, THREE_HOP, serv, Fire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    while (true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        migrat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RandomNeighbor(), STRO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Fi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k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6080" y="2184480"/>
            <a:ext cx="225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 = sens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 = temper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nits = Celsi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rror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±0.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1655-BA16-4730-BDD2-B52B01E09E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029200" cy="426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gilla’s VM to support mobile scripts &amp; service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 service provision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on Tmote Sky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524-3A52-4772-8BEE-00B9A87A65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ensorNets are evolving into a 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oftware architecture is required for building flexible GSI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ed three-tiered service-oriented computing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latform-independent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platform-depend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alleng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5EC-83F0-4D63-A4C0-70C9CA19DC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Nets are ev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architecture does not easily faci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ing global sens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080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er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91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8360" y="34448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Sensor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53400" y="34448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global sen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 (G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6067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ing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FAF-E18E-406E-B6BA-B0D1D8427F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sensors, microservers, base stations,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and continuously ev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25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D8A-2C6E-42AB-A760-515A3FDB3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x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upply chai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 attached to products, cargo containers, loading docks, s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disaster scenario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heterogeneous and dynam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any organizations an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program GSI to help victims and coordinate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E15-E18C-458F-84A7-F9C585E240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oftware architecture based on service-oriented computing &amp; mobil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b services: 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ctive platform-independent mobile scripts: dynamic application deployment 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t platform-dependent services: flexible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ervice-oriented programming paradigm enables seamless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pplication development on evolving &amp; heterogene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048-DF20-4098-B636-E827DEB186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 Rock Corporation [Woo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SensorNet nodes to the external world as a web service using existing standards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pport mobile scripts (dynamic deployment of apps) for programming inside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Web [Santanche et al, IPSN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portal for integrating &amp; viewing data collected from a Senso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Net [Gibbons et al, IEEE Perv. Comp.’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ributed database for WS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t [Gnawali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iered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Net has a fixed and unifor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E05-6735-4B54-8562-4C2B692A5A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neidman et al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vard TR’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rastructure for connecting SensorNets with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data routing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VM [Levis et al, NSDI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M with a custo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vide dynamic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S + DVM [Balani et al, EmSoft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M with dynamically loadable binar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binding between script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te [Yu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pplication support with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ality of service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218-A661-4994-8E49-12369F1F32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engine (VM for mobile scri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&amp; execution of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EF0-5173-40A1-96CE-FEF4B2B5D2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fully handle error conditions like when a script invokes a service that is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,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o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undary between scrip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1A0-B8D5-4AF0-A69D-0A0B0FC16D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14:55Z</dcterms:created>
  <dc:creator>Office 2004 Test Drive User</dc:creator>
  <dc:description/>
  <dc:language>en-US</dc:language>
  <cp:lastModifiedBy>Office 2004 Test Drive User</cp:lastModifiedBy>
  <dcterms:modified xsi:type="dcterms:W3CDTF">2007-04-24T08:28:09Z</dcterms:modified>
  <cp:revision>32</cp:revision>
  <dc:subject/>
  <dc:title>Towards a Flexible Global Sensing Infrastructure</dc:title>
</cp:coreProperties>
</file>